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652-B749-4BB7-8D02-C63237A5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BFA-CCCE-453E-96D2-F6A4570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F81-D366-4439-803F-277DEB9A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120-83EC-4B16-A958-FDBCDACF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8C0-86F9-4341-BF80-CCBF718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9DE-0A4D-465C-ABF6-8303FC4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385-C4FC-469C-B10E-49C80C4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A21-C283-4E67-A91B-8DB5061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ED2-FBC3-45A0-B6BA-BBCAEC51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1E6-10EA-43EC-9748-8FA15D8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280-52B7-495F-96EF-22E0855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1A7-5D7E-465E-932E-88E8445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C63C5-2A9E-4E7F-A9FB-616E0D0D8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238AB-6590-4807-BC00-5D819078C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476600" y="4689360"/>
            <a:ext cx="454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entre </a:t>
            </a: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d’accès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en emploi du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pour des employ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Distribution et promotion des offres d’emplois s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f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ccès aux candidat(e)s présélectionné(e)s pour 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subvention de salaire durant la périod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prime pour embaucher un app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vec rétention des employ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No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lieux et </a:t>
            </a: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heure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2440" y="1814400"/>
            <a:ext cx="61754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180, avenue Argyle, 4i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-Mardi ~ 8h30 - 16: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-Jeudi ~ 8h30 - 19: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- 16:00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Nos lieux et heures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52440" y="1814400"/>
            <a:ext cx="64580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Centre d’achats Merivale, 2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 - Mardi ~ 8h30 – 19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 - Jeudi ~ 8h30 – 16h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– 4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Qu’est-ce que le Centre d’a</a:t>
            </a:r>
            <a:r>
              <a:rPr b="1" lang="fr-CA" sz="2800" spc="-1" strike="noStrike">
                <a:solidFill>
                  <a:srgbClr val="ffffff"/>
                </a:solidFill>
                <a:latin typeface="Georgia"/>
              </a:rPr>
              <a:t>ccès</a:t>
            </a: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 en emploi du 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52440" y="1979640"/>
            <a:ext cx="6175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sans frais, qui aide les individus avec leurs recherche d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Emploi Ontario et est financé par le gouvernement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offre un variété de services pour aider les Ontariens à trouver un emploi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fournit divers services aux employeurs autorises à recruter e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ervices d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1) Ressources 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2) Consultation en 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3) Jumelage travailleur-emploi e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4) Maintien de l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Orientation (I&amp;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2440" y="1676520"/>
            <a:ext cx="630540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Centres de res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ccès aux post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Ordinateurs avec l’accès Internet et un logiciel pour créer un 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Téléphone, imprimeur, télécopieur et photocop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Variété d’ateliers concernant la recherche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Information concernant les programmes d’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Recommandation aux autres programmes communau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ide avec les CV et lettres de 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Distribution des offres d’emploi par cou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*Il n’y a pas de critères d’éligibilité pour c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/consultation d’emplo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Critères d’éligibil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Pas aux études à temps plein (plus de 20 heures par sem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Sans emploi (ou moins de 20 heures par sema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ligible à travailler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Résident(e)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 d’empl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676520"/>
            <a:ext cx="63054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individualis</a:t>
            </a: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 et rencontre avec un(e) consultant(e) en empl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ssistance et accompagnement dans le développement de CV, recherche d’emploi, stratégies de réseautage, préparation aux entrevues, exploration de carrières, et beaucoup p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Clarification en matière d’emploi et de 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ide a établir des objectifs a cour et a long ter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et orientation</a:t>
            </a:r>
            <a:r>
              <a:rPr b="0" lang="fr-CA" sz="19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ux programmes du Ministère comme Deuxième carriè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ccès aux programmes Clés en m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*Pour ceux qui sont éligib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ssez au Centre de Res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ppelez-nous ou envoyez un courriel pour fixer un rendez-v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haque jour il y’a un(e) Consultant(e) en emploi disponible pour vous rencontrer sans rendez-vous mais sur base de premier arrivé, premier ser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Les Consultant(e) s en emploi vous orienteront vers les services les plus appropri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ent s’insc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umelage emploi et aide au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1676520"/>
            <a:ext cx="630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onseil individuel avec un agent(e) de développement d’emploi en matière de recherche d’emploi, réseauta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Information sur la sante et sécurité au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et les droits des travailleu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ide a jumeler les chercheurs d’emploi avec les employeurs potent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 la recherche d’un apprentissage et possibilité d’une bourse d’apprentissage/stag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intien de l’emploi/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outien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trouver un emploi durable ou emploi avec possibilit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d’av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Accès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s mentors/format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ssurer le suivi de la relation avec le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Développer un plan de soutien pour améliorer l'employabilité et le maintien de l'empl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Faire le suivi des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26:01Z</dcterms:modified>
  <cp:revision>31</cp:revision>
  <dc:subject/>
  <dc:title>Slide 1</dc:title>
</cp:coreProperties>
</file>